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25.gif" ContentType="image/gif"/>
  <Override PartName="/ppt/media/image19.wmf" ContentType="image/x-wmf"/>
  <Override PartName="/ppt/media/image17.wmf" ContentType="image/x-wmf"/>
  <Override PartName="/ppt/media/image29.gif" ContentType="image/gif"/>
  <Override PartName="/ppt/media/image8.wmf" ContentType="image/x-wmf"/>
  <Override PartName="/ppt/media/image13.wmf" ContentType="image/x-wmf"/>
  <Override PartName="/ppt/media/image5.png" ContentType="image/png"/>
  <Override PartName="/ppt/media/image10.wmf" ContentType="image/x-wmf"/>
  <Override PartName="/ppt/media/image12.gif" ContentType="image/gif"/>
  <Override PartName="/ppt/media/image30.gif" ContentType="image/gif"/>
  <Override PartName="/ppt/media/image11.wmf" ContentType="image/x-wmf"/>
  <Override PartName="/ppt/media/image32.gif" ContentType="image/gif"/>
  <Override PartName="/ppt/media/image18.wmf" ContentType="image/x-wmf"/>
  <Override PartName="/ppt/media/image20.wmf" ContentType="image/x-wmf"/>
  <Override PartName="/ppt/media/image7.wmf" ContentType="image/x-wmf"/>
  <Override PartName="/ppt/media/image33.gif" ContentType="image/gif"/>
  <Override PartName="/ppt/media/image9.wmf" ContentType="image/x-wmf"/>
  <Override PartName="/ppt/media/image35.gif" ContentType="image/gi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6.gif" ContentType="image/gif"/>
  <Override PartName="/ppt/media/image2.wmf" ContentType="image/x-wmf"/>
  <Override PartName="/ppt/media/image23.jpeg" ContentType="image/jpeg"/>
  <Override PartName="/ppt/media/image14.wmf" ContentType="image/x-wmf"/>
  <Override PartName="/ppt/media/image31.png" ContentType="image/png"/>
  <Override PartName="/ppt/media/image1.png" ContentType="image/png"/>
  <Override PartName="/ppt/media/image15.wmf" ContentType="image/x-wmf"/>
  <Override PartName="/ppt/media/image16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443025-A963-4D9A-8C47-E1CC7D4FD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5AB98-8F5B-4E4B-AE89-5F40A06C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970D75-5BB1-4EEE-8894-EC87D1C2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9AD71-BA07-4AD5-9E8F-274F67B9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0843E-42AE-4EEE-A1EA-94A2FA4F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D4251B-FD48-4AB9-AB57-6EBFBF99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B6F814-E62F-4089-872A-E7154BB3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7FA2A-CBB9-4981-8650-36ED64F8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2A18D-D8D9-4183-B516-06149468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0A295-D7DF-47DF-A9EB-E33D747CC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48731-3B8F-486D-B805-6CA02E733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4BD48-7B52-4DC3-A336-6965CAF21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4640" y="152280"/>
            <a:ext cx="0" cy="152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9960"/>
            <a:ext cx="2133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" name="" descr=""/>
          <p:cNvPicPr/>
          <p:nvPr/>
        </p:nvPicPr>
        <p:blipFill>
          <a:blip r:embed="rId2"/>
          <a:stretch/>
        </p:blipFill>
        <p:spPr>
          <a:xfrm>
            <a:off x="304920" y="5867280"/>
            <a:ext cx="2476440" cy="760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4280" y="464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Georgia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3"/>
          </p:nvPr>
        </p:nvSpPr>
        <p:spPr>
          <a:xfrm>
            <a:off x="456840" y="6249960"/>
            <a:ext cx="21337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4"/>
          </p:nvPr>
        </p:nvSpPr>
        <p:spPr>
          <a:xfrm>
            <a:off x="3124080" y="6249960"/>
            <a:ext cx="28958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7491240" y="2992320"/>
            <a:ext cx="1339560" cy="2187360"/>
            <a:chOff x="7491240" y="2992320"/>
            <a:chExt cx="1339560" cy="2187360"/>
          </a:xfrm>
        </p:grpSpPr>
        <p:sp>
          <p:nvSpPr>
            <p:cNvPr id="79" name=""/>
            <p:cNvSpPr/>
            <p:nvPr/>
          </p:nvSpPr>
          <p:spPr>
            <a:xfrm>
              <a:off x="7491240" y="299232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75640" y="299232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060040" y="299232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91240" y="327636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775640" y="327636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060040" y="327636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344440" y="327636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491240" y="356004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75640" y="3560040"/>
              <a:ext cx="201600" cy="2012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060040" y="356004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44440" y="356004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629200" y="356004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491240" y="3842640"/>
              <a:ext cx="201600" cy="2026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775640" y="3842640"/>
              <a:ext cx="20160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60040" y="3842640"/>
              <a:ext cx="201600" cy="2026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44440" y="3842640"/>
              <a:ext cx="201600" cy="2026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91240" y="41263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775640" y="4126320"/>
              <a:ext cx="20160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60040" y="412632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344440" y="4126320"/>
              <a:ext cx="20160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629200" y="4126320"/>
              <a:ext cx="201600" cy="2030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91240" y="4410720"/>
              <a:ext cx="201600" cy="2012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75640" y="441072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60040" y="441072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344440" y="441072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491240" y="469440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75640" y="4694400"/>
              <a:ext cx="201600" cy="2012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60040" y="469440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344440" y="469440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75640" y="497844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4440" y="4978440"/>
              <a:ext cx="201600" cy="20124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304920" y="2820960"/>
            <a:ext cx="82310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5956200"/>
            <a:ext cx="2476440" cy="758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172200" y="5943600"/>
            <a:ext cx="2565360" cy="6476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330066"/>
                </a:solidFill>
                <a:latin typeface="Georgia"/>
              </a:rPr>
              <a:t>Click to edit the title text format</a:t>
            </a:r>
            <a:endParaRPr b="0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34C6-B18D-4B5F-ADC6-F2FE9519D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gif"/><Relationship Id="rId3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14280" y="464760"/>
            <a:ext cx="678168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Georgia"/>
              </a:rPr>
              <a:t>Thoughts Worth  Pondering</a:t>
            </a:r>
            <a:endParaRPr b="1" lang="en-US" sz="4800" spc="-1" strike="noStrike">
              <a:solidFill>
                <a:srgbClr val="330066"/>
              </a:solidFill>
              <a:latin typeface="Georgia"/>
            </a:endParaRPr>
          </a:p>
        </p:txBody>
      </p:sp>
    </p:spTree>
  </p:cSld>
  <p:transition spd="slow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 pays to plan ahead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It wasn’t raining when Noah built the ark!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ystems &amp; Process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ake sure that incentive compensation is linked to performance over which the beneficiaries have contro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2287440" cy="701640"/>
          </a:xfrm>
          <a:prstGeom prst="rect">
            <a:avLst/>
          </a:prstGeom>
          <a:ln w="0">
            <a:noFill/>
          </a:ln>
        </p:spPr>
      </p:pic>
      <p:grpSp>
        <p:nvGrpSpPr>
          <p:cNvPr id="434" name=""/>
          <p:cNvGrpSpPr/>
          <p:nvPr/>
        </p:nvGrpSpPr>
        <p:grpSpPr>
          <a:xfrm>
            <a:off x="5334120" y="2743200"/>
            <a:ext cx="3520800" cy="3623760"/>
            <a:chOff x="5334120" y="2743200"/>
            <a:chExt cx="3520800" cy="3623760"/>
          </a:xfrm>
        </p:grpSpPr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>
              <a:off x="5943600" y="3777480"/>
              <a:ext cx="2379600" cy="258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5334120" y="2743200"/>
              <a:ext cx="3520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0042e"/>
                  </a:solidFill>
                  <a:latin typeface="Georgia"/>
                </a:rPr>
                <a:t>SYSTEMS &amp; PROCESSES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can be good chemistry for profit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4267080" y="838080"/>
            <a:ext cx="43419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t Cornerstone improve the chemistry of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042e"/>
                </a:solidFill>
                <a:latin typeface="Georgia"/>
              </a:rPr>
              <a:t>SYSTEMS &amp;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path" presetID="5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396 -0.14758 L -0.34236 -0.09923 C -0.41788 -0.07749 -0.52344 -0.11982 -0.53177 -0.17696 L -0.55243 -0.30418 E">
                                      <p:cBhvr>
                                        <p:cTn id="794" dur="5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8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0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3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uper achieving service companies are imbued with the belief that profits come from providing genuine valu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677960" y="1677600"/>
            <a:ext cx="403704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ash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blood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Blood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 life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328840" cy="2041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6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1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0" y="1980720"/>
            <a:ext cx="4037040" cy="14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You cannot cut your way to prosperity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 flipH="1">
            <a:off x="1295280" y="4419720"/>
            <a:ext cx="905040" cy="90324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52 -0.09931 L 0.23385 -0.16598 E">
                                      <p:cBhvr>
                                        <p:cTn id="827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best businesses manage debt wisely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403848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age the pennies and the dollars will take care of themselv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5132520" y="1600200"/>
            <a:ext cx="2516040" cy="3809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2287440" cy="70164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534960" y="41911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 will help you understand what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FINANCE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s all ab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2895480" cy="21528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path" presetID="4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22623E-006 L 0.17084 -4.22623E-006 C 0.24723 -4.22623E-006 0.34167 -0.09183 0.34167 -0.16655 L 0.34167 -0.3331 E">
                                      <p:cBhvr>
                                        <p:cTn id="833" dur="2000" fill="hold"/>
                                        <p:tgtEl>
                                          <p:spTgt spid="4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en in doubt, remember cash is king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’s not the mountain that we conquer, but ourselv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r Edmund Hillary, First to Climb Mt. Everes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Provide customers with awesome service and the money will follow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The ultimate purpose of a business is to build equity value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Financ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Good financial records can translate into a higher multiple when it comes time to sel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228600" y="5943600"/>
            <a:ext cx="2287440" cy="7016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5486400" y="3963960"/>
            <a:ext cx="2743200" cy="19620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1219320" y="1371600"/>
            <a:ext cx="487656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ood planning means you don’t have to break your bank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t Cornerstone help you with your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FINANCE</a:t>
            </a: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834" dur="indefinite" restart="never" nodeType="tmRoot">
          <p:childTnLst>
            <p:seq>
              <p:cTn id="835" dur="indefinite" nodeType="mainSeq">
                <p:childTnLst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0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2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9000">
    <p:random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Key Performance Indicator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What gets measured, gets done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"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6095880" y="608040"/>
            <a:ext cx="2286000" cy="7030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57200" y="1600200"/>
            <a:ext cx="7924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increase the value of your business by showing you how to measure and moni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KEY PERFORMANCE INDIC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608040" y="4037040"/>
            <a:ext cx="2212920" cy="2212920"/>
          </a:xfrm>
          <a:prstGeom prst="rect">
            <a:avLst/>
          </a:prstGeom>
          <a:ln w="0">
            <a:noFill/>
          </a:ln>
        </p:spPr>
      </p:pic>
    </p:spTree>
  </p:cSld>
  <p:transition spd="slow" advTm="24000"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01249E-006 L 0.57448 -0.0007 E">
                                      <p:cBhvr>
                                        <p:cTn id="870" dur="3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You miss 100 percent of the shots you never tak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yne Gretzk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Never retreat in the face of difficulti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dvance as conditions permit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f conditions don’t permit, create those condition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adership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etermines the direction of a compan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rganization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etermines the potential of a company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Tea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determines the success of a company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5000"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future belongs to people who see possibilities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before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they become obvious.</a:t>
            </a: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031000" cy="15415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 flipH="1">
            <a:off x="1677600" y="2362320"/>
            <a:ext cx="2492280" cy="248436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4648320" y="2438280"/>
            <a:ext cx="327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lead you through a disciplined process to define your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random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hy not go out on a limb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sn’t that where the fruit is?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Problems are those things we see when we take our eyes off the goa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rut is a grave with both ends knocked out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940040" y="1397160"/>
          <a:ext cx="52639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0040" y="1397160"/>
                    <a:ext cx="52639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 cannot become what we need to be by remaining what we ar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 know what happens to people who stay in the middle of the road; they get run ov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5031000" cy="154152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2225880" cy="2303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037040" y="2362320"/>
            <a:ext cx="35830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trategy allows you to capture  opportunities.  Cornerstone can help you plan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STRATE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4000"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Communication is the most important source of personal pow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816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914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9144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Jack Welch’s Six Rule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8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ace reality as it is, not as it was or as you wish it to b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e candid with everyon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on’t manage, lead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hange before you have to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f you don’t have a competitive advantage, don’t compet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914400" indent="-344520">
              <a:lnSpc>
                <a:spcPct val="200000"/>
              </a:lnSpc>
              <a:spcBef>
                <a:spcPts val="4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ol your own destiny, or someone else will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3000">
    <p:random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9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indefinite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indefinite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9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indefinite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900" fill="hold"/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1022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o achieve real empowerment and improve morale, follow three basic steps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2240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1022400" indent="-571680">
              <a:lnSpc>
                <a:spcPct val="11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Find out what people are thinking, what they believe the problems in the company are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1022400" indent="-571680">
              <a:lnSpc>
                <a:spcPct val="11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Let them design the solutions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1022400" indent="-571680">
              <a:lnSpc>
                <a:spcPct val="11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Get out of the way and let them put their solutions into practice.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0"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ategy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greatest mistake we make is living in constant fear that we will make on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5334120" y="1905120"/>
            <a:ext cx="3274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STRATEGY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allows you to outsmart the competition.  Let Cornerstone show you how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28600" y="1333440"/>
            <a:ext cx="4951440" cy="3888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629400" y="4927680"/>
            <a:ext cx="1727280" cy="168912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7000"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You either organize or you agonize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r. Ed Meyers, Pastor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First Baptist Church, Farmingt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1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Vision adds value to everything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hn Maxwell, Chief Executive INJO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You are either working </a:t>
            </a:r>
            <a:r>
              <a:rPr b="1" i="1" lang="en-US" sz="3800" spc="-1" strike="noStrike">
                <a:solidFill>
                  <a:srgbClr val="00ff00"/>
                </a:solidFill>
                <a:latin typeface="Georgia"/>
              </a:rPr>
              <a:t>ON</a:t>
            </a:r>
            <a:r>
              <a:rPr b="1" i="1" lang="en-US" sz="3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or </a:t>
            </a:r>
            <a:r>
              <a:rPr b="1" i="1" lang="en-US" sz="3800" spc="-1" strike="noStrike">
                <a:solidFill>
                  <a:srgbClr val="e0042e"/>
                </a:solidFill>
                <a:latin typeface="Georgia"/>
              </a:rPr>
              <a:t>IN</a:t>
            </a: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 your business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ell me, and I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wil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forget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how me, I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may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remember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nvolve me and I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will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understand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4" marL="15987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o Tzu, 500 B.C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9000"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9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9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Is your business controlling you or are you controlling your business?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truc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at we can measure, we can manage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990720" y="5562720"/>
            <a:ext cx="2363760" cy="7239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685800" y="1219320"/>
            <a:ext cx="39625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Good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 Structur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is the key to allowing you to work </a:t>
            </a:r>
            <a:r>
              <a:rPr b="1" i="1" lang="en-US" sz="1800" spc="-1" strike="noStrike">
                <a:solidFill>
                  <a:srgbClr val="00ff00"/>
                </a:solidFill>
                <a:latin typeface="Georgia"/>
              </a:rPr>
              <a:t>ON</a:t>
            </a:r>
            <a:r>
              <a:rPr b="0" i="1" lang="en-US" sz="1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not just </a:t>
            </a:r>
            <a:r>
              <a:rPr b="1" i="1" lang="en-US" sz="1800" spc="-1" strike="noStrike">
                <a:solidFill>
                  <a:srgbClr val="e0042e"/>
                </a:solidFill>
                <a:latin typeface="Georgia"/>
              </a:rPr>
              <a:t>IN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your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et Cornerstone be your partner in bringing structure to your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 flipH="1">
            <a:off x="5029200" y="2209680"/>
            <a:ext cx="2517840" cy="2762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more closely a company’s work force mirrors its customer base, the more effectively it will be able to design and sell its product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ink of yourself as a customer.  Identify with your clientel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The sale is a courtship. 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How good the marriage is depends on how well the seller maintains the relationship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9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Georgia"/>
              </a:rPr>
              <a:t>The best – and cheapest – way to keep customers satisfied is to serve them well from the start.</a:t>
            </a: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Where there is no vision, the people perish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erbs 29:18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Listen to customers.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y’re quite willing to say what kind of service they want and to rate the service they’re getting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1000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9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urning away a complainer by telling him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‘</a:t>
            </a: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It’s our policy’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enrages him.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t’s the corporate equivalent of your parents saying,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‘</a:t>
            </a:r>
            <a:r>
              <a:rPr b="0" i="1" lang="en-US" sz="3800" spc="-1" strike="noStrike">
                <a:solidFill>
                  <a:srgbClr val="7e9ce8"/>
                </a:solidFill>
                <a:latin typeface="Georgia"/>
              </a:rPr>
              <a:t>Because I said so.’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20000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Marketing &amp; Sal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ustomers tell </a:t>
            </a:r>
            <a:r>
              <a:rPr b="1" lang="en-US" sz="2600" spc="-1" strike="noStrike">
                <a:solidFill>
                  <a:srgbClr val="000000"/>
                </a:solidFill>
                <a:latin typeface="Georgia"/>
              </a:rPr>
              <a:t>ten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imes as many people about bad experiences as good on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5106960" y="1981080"/>
            <a:ext cx="3568680" cy="3213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228600" y="2209680"/>
            <a:ext cx="4800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boost your </a:t>
            </a:r>
            <a:r>
              <a:rPr b="1" lang="en-US" sz="24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e0042e"/>
                </a:solidFill>
                <a:latin typeface="Georgia"/>
              </a:rPr>
              <a:t>MARKETING &amp; SALES</a:t>
            </a:r>
            <a:r>
              <a:rPr b="1" lang="en-US" sz="24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oductivity with the world-class customer service training of the RAN ONE networ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1000">
    <p:random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n selling services people buy what they think they are going to get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atch up what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they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hink, with the product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you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deliver and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then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dd some to exceed expectations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4000">
    <p:random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If you are looking for a big opportunity,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seek out a big problem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9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1" dur="2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Anytime you let up, expect a let down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00486E-006 L 0.00017 0.2068 E">
                                      <p:cBhvr>
                                        <p:cTn id="422" dur="20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roducts &amp; Servic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en companies make their customers happy, they make their employees happy too.  Improvements in customer satisfaction lead directly to higher employee retention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5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3583080" cy="1100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380880" y="1066680"/>
            <a:ext cx="571500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analyze the profitability of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RODUCTS &amp; SERVIC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o identify your greatest opportuniti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717560"/>
            <a:ext cx="84582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Many small businesses are non-profit organizations.  They don’t plan it that way.  It’s just the way things end up.”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al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Owner of the Australia Bird Compan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The world’s largest pet bird store in Melbourne Australia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random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3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579132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en you’re through changing,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you’re through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9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Definition of Insanity . . 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elieving you can keep doing what you’ve been doing and get different result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employees information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They can’t feel in control of circumstances if they lack it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 not only use all the brains I have, but all I can borrow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oodrow Wilson,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resident of the United Sta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3581640" cy="31975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228600" y="9144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Development System of Cornerstone Business Solutions can help your team measure u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04920" y="5638680"/>
            <a:ext cx="3047760" cy="93528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animClr clrSpc="rgb">
                                      <p:cBhvr>
                                        <p:cTn id="4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9999"/>
                                      </p:to>
                                    </p:animClr>
                                    <p:set>
                                      <p:cBhvr>
                                        <p:cTn id="496" dur="3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eople who never do any more than they get paid for, never get paid for any more than they d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lbert Hubbar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ssentially there are two actions in life.  Performance and excuses.  Make a decision as to which you will accept for yourself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ephen Brow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eorgia"/>
              </a:rPr>
              <a:t>Excellence is the gradual result of always striving to do better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t Rile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t’s wonderful when the people believe in their leader;  it’s more wonderful when the leader believes in the peop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hn Maxwell, Chief Executive INJO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 challenge so big or audacious that it can seem scary even to the person who conceived it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1680" indent="-571680" algn="just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Some purpose higher than the everyday getting and spending of commerc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370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9000">
    <p:random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People are your only appreciable asset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hn Maxwell, Chief Executive INJO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03" dur="20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f you think you can, you can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d if you think you can’t, you’re right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ry Kay Ash, CEO of Mary Kay Cosmetic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6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9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4191120" cy="35784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219320" y="4572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can help you make sense of your 0rganizatio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80880" y="2133720"/>
            <a:ext cx="38102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right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EOPLE</a:t>
            </a:r>
            <a:r>
              <a:rPr b="1" lang="en-US" sz="18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n the right job for the right reason with the right compensation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238880" y="304920"/>
            <a:ext cx="1524240" cy="14904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9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ny business that pays equal rewards to it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goof-offs”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and its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eager-beavers”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will, sooner or later, find itself with more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goof-offs”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than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“eager-beavers”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eliberation is the work of many men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Action, of one alone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Charles DeGaull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9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People are like rubber bands:  They must be stretched to be effectiv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at you really need in a service business is people who like peop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ank Petro,  Consultant, Booz-Allen Hamilt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 key to making a high-commitment organization work is mutual trust between top executives and employe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7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e least stressed employees are those who are working flat out on some task that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they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have selected – something they really love to d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don’t now survey employee attitudes, 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star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What you find will identify problems before they become crise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9" dur="2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Vision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You can’t build a reputation on what you’re going to do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nry For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Peopl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ix things an executive should never delegat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736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electing the team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onitoring their effort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otivat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Evaluat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3065400" indent="-495360">
              <a:spcBef>
                <a:spcPts val="451"/>
              </a:spcBef>
              <a:buClr>
                <a:srgbClr val="669999"/>
              </a:buClr>
              <a:buSzPct val="70000"/>
              <a:buFont typeface="Georgia"/>
              <a:buAutoNum type="arabicPeriod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warding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5000">
    <p:random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9" dur="10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6" dur="1000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3" dur="1000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5302080" y="1751040"/>
            <a:ext cx="2786400" cy="4148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57200" y="1447920"/>
            <a:ext cx="5181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right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PEOPLE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 Development System will unlock the potential of your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3124080"/>
            <a:ext cx="320040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nerstone has the system you’ve been looking fo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820960" y="4191120"/>
            <a:ext cx="1204920" cy="117792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random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9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7" dur="2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1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Rule One: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The team observes and monitors the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leader’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manifestation of culture. 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eorgia"/>
              </a:rPr>
              <a:t>Rule Two: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 You are </a:t>
            </a:r>
            <a:r>
              <a:rPr b="0" i="1" lang="en-US" sz="3000" spc="-1" strike="noStrike">
                <a:solidFill>
                  <a:srgbClr val="000000"/>
                </a:solidFill>
                <a:latin typeface="Georgia"/>
              </a:rPr>
              <a:t>always</a:t>
            </a: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 manifesting cultur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f you are not managing culture, 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it is managing you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Georgia"/>
              </a:rPr>
              <a:t>Innovate or evaporate.</a:t>
            </a: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5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Let it be known that risk takers won’t be penalized for new ideas that fail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Make clear to one and all that the future of the enterprise rests on a willingness to experiment, to push in new and untested directions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7000"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Make sure your door is really open. 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EOs can’t recall employees ever abusing an open-door policy:  They don’t walk through it unless they really have to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2000">
    <p:random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900" fill="hold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2743200"/>
            <a:ext cx="37339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rporate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CULTURE</a:t>
            </a:r>
            <a:r>
              <a:rPr b="1" lang="en-US" sz="1800" spc="-1" strike="noStrike">
                <a:solidFill>
                  <a:srgbClr val="e0042e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is either an asset or li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hich is it for you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57200" y="5410080"/>
            <a:ext cx="1220760" cy="119088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4648320" y="2590920"/>
            <a:ext cx="3857400" cy="367956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random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1 E">
                                      <p:cBhvr>
                                        <p:cTn id="697" dur="2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2133720"/>
            <a:ext cx="441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ornerstone Business Solutions can help you sharpen your business </a:t>
            </a:r>
            <a:r>
              <a:rPr b="0" lang="en-US" sz="3600" spc="-1" strike="noStrike">
                <a:solidFill>
                  <a:srgbClr val="e0042e"/>
                </a:solidFill>
                <a:latin typeface="Georgia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5800" y="534960"/>
            <a:ext cx="1371600" cy="13366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4800600" y="2971800"/>
            <a:ext cx="3795840" cy="2687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how an unqualified willingness to accept a variety of opinions and integrate them into your management sty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Establish regular times when people know they can come to see you. 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Better yet, go to their offices and talk with them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ie the financial interests of the higher-ups and lower-downs closer together by making exposure to risk and reward more equitabl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10000"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If you don’t treat your own people well, they won’t treat other people well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rb Kelleher, CEO, Southwest Airlin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When was the last time you did something for the first time?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Difficulties mastered are opportunities won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nston Churchil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6323040" y="4294080"/>
            <a:ext cx="2363760" cy="2306880"/>
          </a:xfrm>
          <a:prstGeom prst="rect">
            <a:avLst/>
          </a:prstGeom>
          <a:ln w="0">
            <a:noFill/>
          </a:ln>
        </p:spPr>
      </p:pic>
      <p:grpSp>
        <p:nvGrpSpPr>
          <p:cNvPr id="394" name=""/>
          <p:cNvGrpSpPr/>
          <p:nvPr/>
        </p:nvGrpSpPr>
        <p:grpSpPr>
          <a:xfrm>
            <a:off x="304920" y="3352680"/>
            <a:ext cx="4572000" cy="3308400"/>
            <a:chOff x="304920" y="3352680"/>
            <a:chExt cx="4572000" cy="3308400"/>
          </a:xfrm>
        </p:grpSpPr>
        <p:pic>
          <p:nvPicPr>
            <p:cNvPr id="395" name="" descr=""/>
            <p:cNvPicPr/>
            <p:nvPr/>
          </p:nvPicPr>
          <p:blipFill>
            <a:blip r:embed="rId2"/>
            <a:stretch/>
          </p:blipFill>
          <p:spPr>
            <a:xfrm>
              <a:off x="762120" y="3352680"/>
              <a:ext cx="3657600" cy="24310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</p:spPr>
        </p:pic>
        <p:sp>
          <p:nvSpPr>
            <p:cNvPr id="396" name=""/>
            <p:cNvSpPr/>
            <p:nvPr/>
          </p:nvSpPr>
          <p:spPr>
            <a:xfrm>
              <a:off x="304920" y="6018480"/>
              <a:ext cx="457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A healthy corporate </a:t>
              </a:r>
              <a:r>
                <a:rPr b="0" lang="en-US" sz="3600" spc="-1" strike="noStrike">
                  <a:solidFill>
                    <a:srgbClr val="e0042e"/>
                  </a:solidFill>
                  <a:latin typeface="Georgia"/>
                </a:rPr>
                <a:t>CULTU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4572000" y="1751040"/>
            <a:ext cx="2820600" cy="2319840"/>
            <a:chOff x="4572000" y="1751040"/>
            <a:chExt cx="2820600" cy="2319840"/>
          </a:xfrm>
        </p:grpSpPr>
        <p:pic>
          <p:nvPicPr>
            <p:cNvPr id="398" name="" descr=""/>
            <p:cNvPicPr/>
            <p:nvPr/>
          </p:nvPicPr>
          <p:blipFill>
            <a:blip r:embed="rId3"/>
            <a:stretch/>
          </p:blipFill>
          <p:spPr>
            <a:xfrm>
              <a:off x="4647960" y="1751040"/>
              <a:ext cx="2668680" cy="158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4572000" y="3428280"/>
              <a:ext cx="282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can give rise to healthy profit growth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 advTm="11000">
    <p:random/>
  </p:transition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0.05321 L -0.00417 -0.22438 E">
                                      <p:cBhvr>
                                        <p:cTn id="739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One cannot leap a chasm in two jumps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Winston Churchil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0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Progress always involves risks.  You can’t steal second and keep your foot on first.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derick Wilco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Above all, try something!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anklin Delano Roosevelt, 3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President of the United Stat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938240" y="1397160"/>
          <a:ext cx="526752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38240" y="1397160"/>
                    <a:ext cx="526752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If something has been done a particular way for 15 to 20 years, it’s a pretty good sign in these changing times that it is being done the wrong way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lliot M. Wa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Most people are more comfortable with old problems than they are with new solution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There are a lot of ways to become a failure, but never taking a chance is the most successful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5000"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Achievers are not only persistent, they are also hard workers who believe in themselves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othy L. Griffit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4000"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eorgia"/>
              </a:rPr>
              <a:t>Not all change leads to improvement, but you cannot improve without changing. </a:t>
            </a:r>
            <a:endParaRPr b="0" lang="en-US" sz="3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3000"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Culture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Restlessness is discontent – and discontent is the first necessity of progress.  Show me a thoroughly satisfied man – and I will show you a failure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omas Alva Edis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8000"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92360" cy="795240"/>
          </a:xfrm>
          <a:prstGeom prst="rect">
            <a:avLst/>
          </a:prstGeom>
          <a:ln w="0">
            <a:noFill/>
          </a:ln>
        </p:spPr>
      </p:pic>
      <p:grpSp>
        <p:nvGrpSpPr>
          <p:cNvPr id="419" name=""/>
          <p:cNvGrpSpPr/>
          <p:nvPr/>
        </p:nvGrpSpPr>
        <p:grpSpPr>
          <a:xfrm>
            <a:off x="1066680" y="1238400"/>
            <a:ext cx="6705720" cy="1652760"/>
            <a:chOff x="1066680" y="1238400"/>
            <a:chExt cx="6705720" cy="1652760"/>
          </a:xfrm>
        </p:grpSpPr>
        <p:sp>
          <p:nvSpPr>
            <p:cNvPr id="420" name=""/>
            <p:cNvSpPr/>
            <p:nvPr/>
          </p:nvSpPr>
          <p:spPr>
            <a:xfrm>
              <a:off x="5105520" y="1425600"/>
              <a:ext cx="26668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The right corporate </a:t>
              </a:r>
              <a:r>
                <a:rPr b="1" lang="en-US" sz="3600" spc="-1" strike="noStrike">
                  <a:solidFill>
                    <a:srgbClr val="e0042e"/>
                  </a:solidFill>
                  <a:latin typeface="Georgia"/>
                </a:rPr>
                <a:t>CULTURE</a:t>
              </a:r>
              <a:r>
                <a:rPr b="0" lang="en-US" sz="1800" spc="-1" strike="noStrike">
                  <a:solidFill>
                    <a:srgbClr val="000000"/>
                  </a:solidFill>
                  <a:latin typeface="Georgia"/>
                </a:rPr>
                <a:t> will get your team pulling together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2"/>
            <a:stretch/>
          </p:blipFill>
          <p:spPr>
            <a:xfrm>
              <a:off x="1066680" y="1238400"/>
              <a:ext cx="3353040" cy="1290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14000">
    <p:random/>
  </p:transition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10317 L 0.15 0.43627 E">
                                      <p:cBhvr>
                                        <p:cTn id="763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2" name=""/>
          <p:cNvGraphicFramePr/>
          <p:nvPr/>
        </p:nvGraphicFramePr>
        <p:xfrm>
          <a:off x="682560" y="378000"/>
          <a:ext cx="8064720" cy="622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378000"/>
                    <a:ext cx="8064720" cy="62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4" name=""/>
          <p:cNvGraphicFramePr/>
          <p:nvPr/>
        </p:nvGraphicFramePr>
        <p:xfrm>
          <a:off x="1952640" y="1397160"/>
          <a:ext cx="5241960" cy="40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52640" y="1397160"/>
                    <a:ext cx="5241960" cy="40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6" name=""/>
          <p:cNvSpPr/>
          <p:nvPr/>
        </p:nvSpPr>
        <p:spPr>
          <a:xfrm>
            <a:off x="457200" y="608040"/>
            <a:ext cx="5792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Cornerstone/RAN ONE Business Development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">
    <p:random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3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ystems &amp; Processe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eorgia"/>
              </a:rPr>
              <a:t>We have to undo a 100-year-old concept and convince our managers that their role is not to control people and ‘stay on top’ of things, but rather to guide, energize and excite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Jack Welch, Chairman and CEO of General Electr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9000"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120240"/>
            <a:ext cx="754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Georgia"/>
              </a:rPr>
              <a:t>Systems and Process</a:t>
            </a:r>
            <a:endParaRPr b="1" lang="en-US" sz="3900" spc="-1" strike="noStrike">
              <a:solidFill>
                <a:srgbClr val="330066"/>
              </a:solidFill>
              <a:latin typeface="Georg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717560"/>
            <a:ext cx="8229600" cy="44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We first form habits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Then habits form us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281240" indent="0" algn="ctr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 advTm="6000">
    <p:random/>
  </p:transition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9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2T22:19:10Z</dcterms:created>
  <dc:creator>CMH</dc:creator>
  <dc:description/>
  <dc:language>en-US</dc:language>
  <cp:lastModifiedBy>Chris Hunter</cp:lastModifiedBy>
  <dcterms:modified xsi:type="dcterms:W3CDTF">2002-11-01T23:30:23Z</dcterms:modified>
  <cp:revision>181</cp:revision>
  <dc:subject/>
  <dc:title>Slide 1</dc:title>
</cp:coreProperties>
</file>